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image1.wmf" ContentType="image/x-wm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1.wmf" ContentType="image/x-wmf"/>
  <Override PartName="/ppt/media/image15.wmf" ContentType="image/x-wmf"/>
  <Override PartName="/ppt/media/image4.gif" ContentType="image/gif"/>
  <Override PartName="/ppt/media/image12.wmf" ContentType="image/x-wmf"/>
  <Override PartName="/ppt/media/image16.wmf" ContentType="image/x-wmf"/>
  <Override PartName="/ppt/media/image5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E6F-F6BB-4409-8E80-C9BADCA97F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1FA-8F25-4600-A6A6-66B3EF56FA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FB6-0B3E-4503-AD9E-7C2CABB76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07A-D30A-41F9-9268-8BF8270931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FA10-62CA-40F5-BFBE-23563D316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D8E-FF58-4F46-91B8-ED063F9D1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4B74-F148-4B49-BFED-C0EDA1CCB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24A1-BFD3-4309-9A96-EA79AB66B1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E6BD-5ADD-49F7-80B5-727F8F5511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9DA9-CB26-491E-938C-B11E815463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EFC-61E7-4F19-B076-67CCD4CF5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4390-DD5C-46BD-A44F-4A34445816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F008-D9CC-43A1-B507-03F7BA6A14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C533-9F19-40C4-8643-699C9FBEA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1A51-8449-455E-B181-59578028B8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3B94-52CD-4EDD-AE37-435D94B5FE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937-5971-4815-B66D-0B98229757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9E9-7EA8-462D-8A68-496C34E1A0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169E-3083-4865-9529-3674016C44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A5A-B89B-463E-B8FF-691A1425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D2E-A782-4B0B-97D4-C02200BA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96F-862C-4C35-B690-EA9D7321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640-E4C0-4831-95E6-9DE7D30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D3D-0263-491C-B9CF-FF88B25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360-C181-44F5-AC63-946DDA69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DE9-353F-48DD-8374-FBA1CD3B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A33-7125-47A6-8E3C-01CAE604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CE5-73AF-45F5-BC8D-5FF77729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0E0-4896-4E1F-ADB4-E904766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638-277A-4FFB-B281-E0B52BA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1FE-C6A2-4B44-B56F-3417485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20AC-14B5-428D-B560-46F087D0F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O02952_"/>
          <p:cNvPicPr/>
          <p:nvPr/>
        </p:nvPicPr>
        <p:blipFill>
          <a:blip r:embed="rId1"/>
          <a:stretch/>
        </p:blipFill>
        <p:spPr>
          <a:xfrm>
            <a:off x="3200400" y="533520"/>
            <a:ext cx="28195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 flipH="1">
            <a:off x="2286000" y="762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2361960" y="1676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1980720" y="19051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5486400" y="12193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5867280" y="2057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36196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2133720" y="4800600"/>
            <a:ext cx="1676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4724280" y="53337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33520" y="754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85800" y="906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838080" y="105876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219320" y="533520"/>
            <a:ext cx="121896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09480" y="2133720"/>
            <a:ext cx="15242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’épa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066680" y="3962520"/>
            <a:ext cx="144792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jam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62120" y="4876920"/>
            <a:ext cx="1600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gen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791320" y="5181480"/>
            <a:ext cx="121896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638680" y="3124080"/>
            <a:ext cx="15242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do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6553080" y="1828800"/>
            <a:ext cx="1219320" cy="8254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477120" y="990720"/>
            <a:ext cx="121896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295280" y="1371600"/>
            <a:ext cx="12193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c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5791320" y="2590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304920" y="6019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5" descr="j0095713"/>
          <p:cNvPicPr/>
          <p:nvPr/>
        </p:nvPicPr>
        <p:blipFill>
          <a:blip r:embed="rId2"/>
          <a:stretch/>
        </p:blipFill>
        <p:spPr>
          <a:xfrm>
            <a:off x="304920" y="5715000"/>
            <a:ext cx="377640" cy="7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j0095694"/>
          <p:cNvPicPr/>
          <p:nvPr/>
        </p:nvPicPr>
        <p:blipFill>
          <a:blip r:embed="rId3"/>
          <a:stretch/>
        </p:blipFill>
        <p:spPr>
          <a:xfrm>
            <a:off x="685800" y="6019920"/>
            <a:ext cx="365040" cy="399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j0095686"/>
          <p:cNvPicPr/>
          <p:nvPr/>
        </p:nvPicPr>
        <p:blipFill>
          <a:blip r:embed="rId4"/>
          <a:stretch/>
        </p:blipFill>
        <p:spPr>
          <a:xfrm>
            <a:off x="1447920" y="6019920"/>
            <a:ext cx="42228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j0095719"/>
          <p:cNvPicPr/>
          <p:nvPr/>
        </p:nvPicPr>
        <p:blipFill>
          <a:blip r:embed="rId5"/>
          <a:stretch/>
        </p:blipFill>
        <p:spPr>
          <a:xfrm>
            <a:off x="1905120" y="60199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j0095734"/>
          <p:cNvPicPr/>
          <p:nvPr/>
        </p:nvPicPr>
        <p:blipFill>
          <a:blip r:embed="rId6"/>
          <a:stretch/>
        </p:blipFill>
        <p:spPr>
          <a:xfrm>
            <a:off x="2362320" y="6019920"/>
            <a:ext cx="446040" cy="380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j0095728"/>
          <p:cNvPicPr/>
          <p:nvPr/>
        </p:nvPicPr>
        <p:blipFill>
          <a:blip r:embed="rId7"/>
          <a:stretch/>
        </p:blipFill>
        <p:spPr>
          <a:xfrm>
            <a:off x="2819520" y="6019920"/>
            <a:ext cx="457200" cy="479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j0095745"/>
          <p:cNvPicPr/>
          <p:nvPr/>
        </p:nvPicPr>
        <p:blipFill>
          <a:blip r:embed="rId8"/>
          <a:stretch/>
        </p:blipFill>
        <p:spPr>
          <a:xfrm>
            <a:off x="3276720" y="5943600"/>
            <a:ext cx="377640" cy="434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304920" y="5867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3" descr="BD15350_"/>
          <p:cNvPicPr/>
          <p:nvPr/>
        </p:nvPicPr>
        <p:blipFill>
          <a:blip r:embed="rId9"/>
          <a:stretch/>
        </p:blipFill>
        <p:spPr>
          <a:xfrm>
            <a:off x="4038480" y="1905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0" name="Line 34"/>
          <p:cNvSpPr/>
          <p:nvPr/>
        </p:nvSpPr>
        <p:spPr>
          <a:xfrm flipH="1">
            <a:off x="2209680" y="220968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838080" y="2971800"/>
            <a:ext cx="14479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e co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8"/>
          <p:cNvSpPr/>
          <p:nvPr/>
        </p:nvSpPr>
        <p:spPr>
          <a:xfrm>
            <a:off x="7143840" y="4143240"/>
            <a:ext cx="185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voir ma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u (ma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à la (f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ux (pl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à l’ (vow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5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6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7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8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9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30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31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32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6"/>
          <p:cNvSpPr/>
          <p:nvPr/>
        </p:nvSpPr>
        <p:spPr>
          <a:xfrm>
            <a:off x="2700360" y="5229360"/>
            <a:ext cx="32418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e gri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WordArt 23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4" name="WordArt 24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5" name="WordArt 25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6" name="WordArt 26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8" name="WordArt 28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49" name="WordArt 29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0" name="WordArt 30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1" name="WordArt 3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2" name="Picture 3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1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2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3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4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5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6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7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9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1403280" y="981000"/>
            <a:ext cx="61930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un rh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une grip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été piqué par une abe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e me suis b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ûlé(e) le/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e me suis cassé(e) le/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’ai envie de vo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e me suis fait mal à la/au/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J’ai un coup de sol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6"/>
          <p:cNvSpPr/>
          <p:nvPr/>
        </p:nvSpPr>
        <p:spPr>
          <a:xfrm>
            <a:off x="0" y="333360"/>
            <a:ext cx="5435640" cy="6192720"/>
          </a:xfrm>
          <a:prstGeom prst="wedgeEllipseCallout">
            <a:avLst>
              <a:gd name="adj1" fmla="val 57273"/>
              <a:gd name="adj2" fmla="val -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Un homme typiqu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 a un rhume mais il dit qu’i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-a mal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a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ê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été piqué par une ab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la const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mal au ven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971640" y="1268280"/>
            <a:ext cx="367164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old a décidé d’aller voir le médecin parce qu’il est vraiment mal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doit téléphon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cabinet médicale pour prendre un rendez-v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hone3"/>
          <p:cNvSpPr/>
          <p:nvPr/>
        </p:nvSpPr>
        <p:spPr>
          <a:xfrm>
            <a:off x="2700360" y="3141720"/>
            <a:ext cx="1728720" cy="17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24000" y="333360"/>
            <a:ext cx="7920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les questions que la réceptioniste a posés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611280" y="907920"/>
            <a:ext cx="2376360" cy="2305080"/>
          </a:xfrm>
          <a:prstGeom prst="wedgeEllipseCallout">
            <a:avLst>
              <a:gd name="adj1" fmla="val 53805"/>
              <a:gd name="adj2" fmla="val 262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tre nom? Comment ca s’écr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24360" y="981000"/>
            <a:ext cx="4032360" cy="1584360"/>
          </a:xfrm>
          <a:prstGeom prst="wedgeEllipseCallout">
            <a:avLst>
              <a:gd name="adj1" fmla="val -63935"/>
              <a:gd name="adj2" fmla="val 73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lle est votre date de naiss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6443640" y="4797360"/>
            <a:ext cx="2087640" cy="1871640"/>
          </a:xfrm>
          <a:prstGeom prst="wedgeEllipseCallout">
            <a:avLst>
              <a:gd name="adj1" fmla="val -139351"/>
              <a:gd name="adj2" fmla="val -764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’est-ce qui ne va p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059280" y="5157720"/>
            <a:ext cx="2087280" cy="1224000"/>
          </a:xfrm>
          <a:prstGeom prst="wedgeEllipseCallout">
            <a:avLst>
              <a:gd name="adj1" fmla="val -61180"/>
              <a:gd name="adj2" fmla="val -558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puis qu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5219640" y="2925720"/>
            <a:ext cx="2521080" cy="1224000"/>
          </a:xfrm>
          <a:prstGeom prst="wedgeEllipseCallout">
            <a:avLst>
              <a:gd name="adj1" fmla="val -73046"/>
              <a:gd name="adj2" fmla="val 22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tre adres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36360" y="3357720"/>
            <a:ext cx="2087640" cy="3500280"/>
          </a:xfrm>
          <a:prstGeom prst="wedgeEllipseCallout">
            <a:avLst>
              <a:gd name="adj1" fmla="val 73268"/>
              <a:gd name="adj2" fmla="val -198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’ai fixé un rendez-vous pour jeud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à 9 he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6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7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8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79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0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1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2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83" name="WordArt 2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Picture 2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0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1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2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3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4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5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6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52280" y="44280"/>
          <a:ext cx="4267440" cy="6755040"/>
        </p:xfrm>
        <a:graphic>
          <a:graphicData uri="http://schemas.openxmlformats.org/drawingml/2006/table">
            <a:tbl>
              <a:tblPr/>
              <a:tblGrid>
                <a:gridCol w="221004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/à la/aux/à l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un rendez-v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vez quelque chose cont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rhume/une grip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iq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 comprim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au co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lé(e)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cassé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me sens pas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i ne va p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 devra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ordon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faire vacc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is qua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s’est pass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697280" y="44280"/>
          <a:ext cx="4267440" cy="6755040"/>
        </p:xfrm>
        <a:graphic>
          <a:graphicData uri="http://schemas.openxmlformats.org/drawingml/2006/table">
            <a:tbl>
              <a:tblPr/>
              <a:tblGrid>
                <a:gridCol w="221004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un rendez-v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avez quelque chose cont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rhume/une grip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iq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 comprim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mal au co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b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ûlé(e)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suis cassé le/la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me sens pas b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est-ce qui ne va pa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u devra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ordonn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faire vacc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uis quan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s’est passé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j0136749"/>
          <p:cNvPicPr/>
          <p:nvPr/>
        </p:nvPicPr>
        <p:blipFill>
          <a:blip r:embed="rId1"/>
          <a:stretch/>
        </p:blipFill>
        <p:spPr>
          <a:xfrm>
            <a:off x="4932360" y="0"/>
            <a:ext cx="3897360" cy="683244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3"/>
          <p:cNvSpPr/>
          <p:nvPr/>
        </p:nvSpPr>
        <p:spPr>
          <a:xfrm>
            <a:off x="0" y="333360"/>
            <a:ext cx="5435640" cy="6192720"/>
          </a:xfrm>
          <a:prstGeom prst="wedgeEllipseCallout">
            <a:avLst>
              <a:gd name="adj1" fmla="val 57273"/>
              <a:gd name="adj2" fmla="val -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7"/>
          <p:cNvSpPr txBox="1"/>
          <p:nvPr/>
        </p:nvSpPr>
        <p:spPr>
          <a:xfrm>
            <a:off x="395280" y="544500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38"/>
          <p:cNvSpPr txBox="1"/>
          <p:nvPr/>
        </p:nvSpPr>
        <p:spPr>
          <a:xfrm>
            <a:off x="324000" y="458136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9"/>
          <p:cNvSpPr txBox="1"/>
          <p:nvPr/>
        </p:nvSpPr>
        <p:spPr>
          <a:xfrm>
            <a:off x="395280" y="364500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40"/>
          <p:cNvSpPr txBox="1"/>
          <p:nvPr/>
        </p:nvSpPr>
        <p:spPr>
          <a:xfrm>
            <a:off x="395280" y="270972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41"/>
          <p:cNvSpPr txBox="1"/>
          <p:nvPr/>
        </p:nvSpPr>
        <p:spPr>
          <a:xfrm>
            <a:off x="395280" y="191628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42"/>
          <p:cNvSpPr txBox="1"/>
          <p:nvPr/>
        </p:nvSpPr>
        <p:spPr>
          <a:xfrm>
            <a:off x="395280" y="105264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43"/>
          <p:cNvSpPr txBox="1"/>
          <p:nvPr/>
        </p:nvSpPr>
        <p:spPr>
          <a:xfrm>
            <a:off x="395280" y="18900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Qu'est-ce qui ne va pas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3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4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5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99" name="Picture 28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5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6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7"/>
          <p:cNvSpPr/>
          <p:nvPr/>
        </p:nvSpPr>
        <p:spPr>
          <a:xfrm>
            <a:off x="2050920" y="5229360"/>
            <a:ext cx="4608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 coup de sol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4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5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17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8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6"/>
          <p:cNvSpPr/>
          <p:nvPr/>
        </p:nvSpPr>
        <p:spPr>
          <a:xfrm>
            <a:off x="1476360" y="5229360"/>
            <a:ext cx="5977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b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ûle(e) l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0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1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2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3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4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5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7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6"/>
          <p:cNvSpPr/>
          <p:nvPr/>
        </p:nvSpPr>
        <p:spPr>
          <a:xfrm>
            <a:off x="2050920" y="5229360"/>
            <a:ext cx="4608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envie de vo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1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3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6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6"/>
          <p:cNvSpPr/>
          <p:nvPr/>
        </p:nvSpPr>
        <p:spPr>
          <a:xfrm>
            <a:off x="1116000" y="5229360"/>
            <a:ext cx="6551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été piqué par une ab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8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69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0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1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2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3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74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5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6"/>
          <p:cNvSpPr/>
          <p:nvPr/>
        </p:nvSpPr>
        <p:spPr>
          <a:xfrm>
            <a:off x="1042920" y="5229360"/>
            <a:ext cx="6624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fait mal au doig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9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0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1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2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3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94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6"/>
          <p:cNvSpPr/>
          <p:nvPr/>
        </p:nvSpPr>
        <p:spPr>
          <a:xfrm>
            <a:off x="1332000" y="5229360"/>
            <a:ext cx="61927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e me suis cassé(e) la jam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0"/>
          <a:ext cx="9144000" cy="4573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WordArt 19"/>
          <p:cNvSpPr txBox="1"/>
          <p:nvPr/>
        </p:nvSpPr>
        <p:spPr>
          <a:xfrm>
            <a:off x="10800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6" name="WordArt 20"/>
          <p:cNvSpPr txBox="1"/>
          <p:nvPr/>
        </p:nvSpPr>
        <p:spPr>
          <a:xfrm>
            <a:off x="239544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7" name="WordArt 21"/>
          <p:cNvSpPr txBox="1"/>
          <p:nvPr/>
        </p:nvSpPr>
        <p:spPr>
          <a:xfrm>
            <a:off x="464328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8" name="WordArt 22"/>
          <p:cNvSpPr txBox="1"/>
          <p:nvPr/>
        </p:nvSpPr>
        <p:spPr>
          <a:xfrm>
            <a:off x="6948360" y="44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9" name="WordArt 23"/>
          <p:cNvSpPr txBox="1"/>
          <p:nvPr/>
        </p:nvSpPr>
        <p:spPr>
          <a:xfrm>
            <a:off x="108000" y="2349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0" name="WordArt 24"/>
          <p:cNvSpPr txBox="1"/>
          <p:nvPr/>
        </p:nvSpPr>
        <p:spPr>
          <a:xfrm>
            <a:off x="241128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1" name="WordArt 25"/>
          <p:cNvSpPr txBox="1"/>
          <p:nvPr/>
        </p:nvSpPr>
        <p:spPr>
          <a:xfrm>
            <a:off x="4716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2" name="WordArt 26"/>
          <p:cNvSpPr txBox="1"/>
          <p:nvPr/>
        </p:nvSpPr>
        <p:spPr>
          <a:xfrm>
            <a:off x="6948360" y="2421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3" name="Picture 27" descr="MCj042445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1832040" cy="176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8" descr="MCj03479350000[1]"/>
          <p:cNvPicPr/>
          <p:nvPr/>
        </p:nvPicPr>
        <p:blipFill>
          <a:blip r:embed="rId2"/>
          <a:stretch/>
        </p:blipFill>
        <p:spPr>
          <a:xfrm>
            <a:off x="4859280" y="260280"/>
            <a:ext cx="1825560" cy="173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9" descr="j0389380"/>
          <p:cNvPicPr/>
          <p:nvPr/>
        </p:nvPicPr>
        <p:blipFill>
          <a:blip r:embed="rId3"/>
          <a:stretch/>
        </p:blipFill>
        <p:spPr>
          <a:xfrm>
            <a:off x="7400880" y="620640"/>
            <a:ext cx="116064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j0336488"/>
          <p:cNvPicPr/>
          <p:nvPr/>
        </p:nvPicPr>
        <p:blipFill>
          <a:blip r:embed="rId4"/>
          <a:stretch/>
        </p:blipFill>
        <p:spPr>
          <a:xfrm>
            <a:off x="7093080" y="1484280"/>
            <a:ext cx="952200" cy="285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1" descr="bd05607_"/>
          <p:cNvPicPr/>
          <p:nvPr/>
        </p:nvPicPr>
        <p:blipFill>
          <a:blip r:embed="rId5"/>
          <a:stretch/>
        </p:blipFill>
        <p:spPr>
          <a:xfrm>
            <a:off x="611280" y="2781360"/>
            <a:ext cx="1576440" cy="1473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2" descr="pe07280_"/>
          <p:cNvPicPr/>
          <p:nvPr/>
        </p:nvPicPr>
        <p:blipFill>
          <a:blip r:embed="rId6"/>
          <a:stretch/>
        </p:blipFill>
        <p:spPr>
          <a:xfrm>
            <a:off x="2916360" y="2565360"/>
            <a:ext cx="1541520" cy="1455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3" descr="j0335000"/>
          <p:cNvPicPr/>
          <p:nvPr/>
        </p:nvPicPr>
        <p:blipFill>
          <a:blip r:embed="rId7"/>
          <a:stretch/>
        </p:blipFill>
        <p:spPr>
          <a:xfrm>
            <a:off x="5292720" y="2708280"/>
            <a:ext cx="1368360" cy="134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4" descr="pe07292_"/>
          <p:cNvPicPr/>
          <p:nvPr/>
        </p:nvPicPr>
        <p:blipFill>
          <a:blip r:embed="rId8"/>
          <a:stretch/>
        </p:blipFill>
        <p:spPr>
          <a:xfrm>
            <a:off x="7308720" y="2852640"/>
            <a:ext cx="1619280" cy="1392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5" descr="hm00492_"/>
          <p:cNvPicPr/>
          <p:nvPr/>
        </p:nvPicPr>
        <p:blipFill>
          <a:blip r:embed="rId9"/>
          <a:stretch/>
        </p:blipFill>
        <p:spPr>
          <a:xfrm>
            <a:off x="2987640" y="620640"/>
            <a:ext cx="1255680" cy="1397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3059280" y="5300640"/>
            <a:ext cx="3097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’ai un r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5:45:05Z</dcterms:created>
  <dc:creator>mwalker</dc:creator>
  <dc:description/>
  <dc:language>en-US</dc:language>
  <cp:lastModifiedBy>scollett</cp:lastModifiedBy>
  <dcterms:modified xsi:type="dcterms:W3CDTF">2010-08-06T01:19:17Z</dcterms:modified>
  <cp:revision>10</cp:revision>
  <dc:subject/>
  <dc:title>PowerPoint Presentation</dc:title>
</cp:coreProperties>
</file>